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09E76D-B7DD-48D7-A340-B811DBB83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DA3382-FE40-40D4-852D-2B9B1F2D8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2169B-FAD5-41DF-8BC4-3D0E57259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82475B-FB58-4269-9188-81C7A1DBB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BEDE9-37E5-45CF-86DF-B3DC64630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75734-5C6B-4B2A-94D0-7753549C0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91FF8-237C-4B8A-86C7-836E878ED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CAAE1-DAF0-458E-B930-149777194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BFE5B-4603-42C0-AFF4-EDC24051F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57BA5-C8C5-4806-AB17-DFD0F2864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23128-FBA3-44F8-BC09-225823D95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01FF78-1797-4387-A1DF-566926F10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44F54-EF29-4AB4-8331-C9C2D9885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7BB43-D002-40C8-BD82-748EAB15E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8C875-0F82-4822-992A-D5C126815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AA99A-6462-4D73-AD7B-2E509092F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D902A-20AA-46BB-B8CE-DE97347A5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9C4907-BD2E-466D-962E-D48C8CF42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565673-3ED3-41A7-AAF7-A60D8583F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1430F3-7399-4A60-B57D-F77FAFBAE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33B3E7-EFCE-428D-A629-29A744049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031A96-FDE4-4608-A08A-C0026083A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A1537-D659-4E76-82E7-A73B5EDFD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FAADCC-A477-4B30-B975-68191A85D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CAP_prj.ex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4CD3B-8D36-4283-88DD-7DB21777647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4560" y="0"/>
            <a:ext cx="1549440" cy="215748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673560" y="106200"/>
            <a:ext cx="40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 the mouse button to activate each presentation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A9A83-0D2B-4B73-8AD2-43DD7813F95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AP_prj.ex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AP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ryptographic Analysis Program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ermutation Cipher Help Pres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152280"/>
            <a:ext cx="914400" cy="127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94880" y="64771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nter or click on your mouse button to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39560" y="527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mutation Cip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14280" y="1936800"/>
            <a:ext cx="7647120" cy="27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eak the plaintext up into groups of a fixed size,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 a permutation of the integers 1 to d called 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in each block, permute the letters according to 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key is (d,f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, let d = 5 and let f be given b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grpSp>
        <p:nvGrpSpPr>
          <p:cNvPr id="115" name=""/>
          <p:cNvGrpSpPr/>
          <p:nvPr/>
        </p:nvGrpSpPr>
        <p:grpSpPr>
          <a:xfrm>
            <a:off x="1287720" y="4127400"/>
            <a:ext cx="1711800" cy="459720"/>
            <a:chOff x="1287720" y="4127400"/>
            <a:chExt cx="1711800" cy="459720"/>
          </a:xfrm>
        </p:grpSpPr>
        <p:sp>
          <p:nvSpPr>
            <p:cNvPr id="116" name=""/>
            <p:cNvSpPr/>
            <p:nvPr/>
          </p:nvSpPr>
          <p:spPr>
            <a:xfrm>
              <a:off x="1287720" y="4127400"/>
              <a:ext cx="34992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649600" y="4127400"/>
              <a:ext cx="34992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628640" y="4373640"/>
              <a:ext cx="894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287720" y="4660920"/>
            <a:ext cx="1711800" cy="459720"/>
            <a:chOff x="1287720" y="4660920"/>
            <a:chExt cx="1711800" cy="459720"/>
          </a:xfrm>
        </p:grpSpPr>
        <p:sp>
          <p:nvSpPr>
            <p:cNvPr id="120" name=""/>
            <p:cNvSpPr/>
            <p:nvPr/>
          </p:nvSpPr>
          <p:spPr>
            <a:xfrm>
              <a:off x="1287720" y="4660920"/>
              <a:ext cx="34992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649600" y="4660920"/>
              <a:ext cx="34992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618920" y="4897440"/>
              <a:ext cx="875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1297440" y="5194440"/>
            <a:ext cx="1702080" cy="459720"/>
            <a:chOff x="1297440" y="5194440"/>
            <a:chExt cx="1702080" cy="459720"/>
          </a:xfrm>
        </p:grpSpPr>
        <p:sp>
          <p:nvSpPr>
            <p:cNvPr id="124" name=""/>
            <p:cNvSpPr/>
            <p:nvPr/>
          </p:nvSpPr>
          <p:spPr>
            <a:xfrm>
              <a:off x="1297440" y="5194440"/>
              <a:ext cx="34992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649600" y="5194440"/>
              <a:ext cx="34992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618920" y="5421240"/>
              <a:ext cx="875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1287720" y="5727600"/>
            <a:ext cx="1693080" cy="459720"/>
            <a:chOff x="1287720" y="5727600"/>
            <a:chExt cx="1693080" cy="459720"/>
          </a:xfrm>
        </p:grpSpPr>
        <p:sp>
          <p:nvSpPr>
            <p:cNvPr id="128" name=""/>
            <p:cNvSpPr/>
            <p:nvPr/>
          </p:nvSpPr>
          <p:spPr>
            <a:xfrm>
              <a:off x="1287720" y="5727600"/>
              <a:ext cx="34992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630880" y="5727600"/>
              <a:ext cx="34992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619280" y="5945400"/>
              <a:ext cx="876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287720" y="6261120"/>
            <a:ext cx="1711800" cy="459720"/>
            <a:chOff x="1287720" y="6261120"/>
            <a:chExt cx="1711800" cy="459720"/>
          </a:xfrm>
        </p:grpSpPr>
        <p:sp>
          <p:nvSpPr>
            <p:cNvPr id="132" name=""/>
            <p:cNvSpPr/>
            <p:nvPr/>
          </p:nvSpPr>
          <p:spPr>
            <a:xfrm>
              <a:off x="1287720" y="6261120"/>
              <a:ext cx="34992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649600" y="6261120"/>
              <a:ext cx="34992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618920" y="6469200"/>
              <a:ext cx="875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3865320" y="4421160"/>
            <a:ext cx="420408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g e t t h    e b a l 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4095720" y="4811760"/>
            <a:ext cx="853920" cy="918360"/>
            <a:chOff x="4095720" y="4811760"/>
            <a:chExt cx="853920" cy="918360"/>
          </a:xfrm>
        </p:grpSpPr>
        <p:sp>
          <p:nvSpPr>
            <p:cNvPr id="137" name=""/>
            <p:cNvSpPr/>
            <p:nvPr/>
          </p:nvSpPr>
          <p:spPr>
            <a:xfrm>
              <a:off x="4095720" y="4811760"/>
              <a:ext cx="571320" cy="57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583160" y="5270400"/>
              <a:ext cx="36648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4429080" y="4773600"/>
            <a:ext cx="856440" cy="956520"/>
            <a:chOff x="4429080" y="4773600"/>
            <a:chExt cx="856440" cy="956520"/>
          </a:xfrm>
        </p:grpSpPr>
        <p:sp>
          <p:nvSpPr>
            <p:cNvPr id="140" name=""/>
            <p:cNvSpPr/>
            <p:nvPr/>
          </p:nvSpPr>
          <p:spPr>
            <a:xfrm>
              <a:off x="4429080" y="4773600"/>
              <a:ext cx="571320" cy="57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35600" y="5270400"/>
              <a:ext cx="34992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3935160" y="4773600"/>
            <a:ext cx="807840" cy="956520"/>
            <a:chOff x="3935160" y="4773600"/>
            <a:chExt cx="807840" cy="956520"/>
          </a:xfrm>
        </p:grpSpPr>
        <p:sp>
          <p:nvSpPr>
            <p:cNvPr id="143" name=""/>
            <p:cNvSpPr/>
            <p:nvPr/>
          </p:nvSpPr>
          <p:spPr>
            <a:xfrm>
              <a:off x="3935160" y="5270400"/>
              <a:ext cx="28296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4162320" y="4773600"/>
              <a:ext cx="580680" cy="58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5172120" y="4782960"/>
            <a:ext cx="474480" cy="946800"/>
            <a:chOff x="5172120" y="4782960"/>
            <a:chExt cx="474480" cy="946800"/>
          </a:xfrm>
        </p:grpSpPr>
        <p:sp>
          <p:nvSpPr>
            <p:cNvPr id="146" name=""/>
            <p:cNvSpPr/>
            <p:nvPr/>
          </p:nvSpPr>
          <p:spPr>
            <a:xfrm>
              <a:off x="5363640" y="5270040"/>
              <a:ext cx="28296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172120" y="4782960"/>
              <a:ext cx="247320" cy="56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221000" y="4773600"/>
            <a:ext cx="1198440" cy="956520"/>
            <a:chOff x="4221000" y="4773600"/>
            <a:chExt cx="1198440" cy="956520"/>
          </a:xfrm>
        </p:grpSpPr>
        <p:sp>
          <p:nvSpPr>
            <p:cNvPr id="149" name=""/>
            <p:cNvSpPr/>
            <p:nvPr/>
          </p:nvSpPr>
          <p:spPr>
            <a:xfrm>
              <a:off x="4221000" y="5270400"/>
              <a:ext cx="36648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4495680" y="4773600"/>
              <a:ext cx="923760" cy="60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6505560" y="4802040"/>
            <a:ext cx="837720" cy="918360"/>
            <a:chOff x="6505560" y="4802040"/>
            <a:chExt cx="837720" cy="918360"/>
          </a:xfrm>
        </p:grpSpPr>
        <p:sp>
          <p:nvSpPr>
            <p:cNvPr id="152" name=""/>
            <p:cNvSpPr/>
            <p:nvPr/>
          </p:nvSpPr>
          <p:spPr>
            <a:xfrm>
              <a:off x="6505560" y="4802040"/>
              <a:ext cx="571320" cy="57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993360" y="5260680"/>
              <a:ext cx="34992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6838920" y="4764240"/>
            <a:ext cx="872640" cy="956160"/>
            <a:chOff x="6838920" y="4764240"/>
            <a:chExt cx="872640" cy="956160"/>
          </a:xfrm>
        </p:grpSpPr>
        <p:sp>
          <p:nvSpPr>
            <p:cNvPr id="155" name=""/>
            <p:cNvSpPr/>
            <p:nvPr/>
          </p:nvSpPr>
          <p:spPr>
            <a:xfrm>
              <a:off x="6838920" y="4764240"/>
              <a:ext cx="571320" cy="571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345080" y="5260680"/>
              <a:ext cx="36648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6345720" y="4764240"/>
            <a:ext cx="807120" cy="956160"/>
            <a:chOff x="6345720" y="4764240"/>
            <a:chExt cx="807120" cy="956160"/>
          </a:xfrm>
        </p:grpSpPr>
        <p:sp>
          <p:nvSpPr>
            <p:cNvPr id="158" name=""/>
            <p:cNvSpPr/>
            <p:nvPr/>
          </p:nvSpPr>
          <p:spPr>
            <a:xfrm>
              <a:off x="6345720" y="5260680"/>
              <a:ext cx="34992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6572160" y="4764240"/>
              <a:ext cx="580680" cy="580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7581960" y="4773600"/>
            <a:ext cx="457560" cy="946800"/>
            <a:chOff x="7581960" y="4773600"/>
            <a:chExt cx="457560" cy="946800"/>
          </a:xfrm>
        </p:grpSpPr>
        <p:sp>
          <p:nvSpPr>
            <p:cNvPr id="161" name=""/>
            <p:cNvSpPr/>
            <p:nvPr/>
          </p:nvSpPr>
          <p:spPr>
            <a:xfrm>
              <a:off x="7773480" y="5260680"/>
              <a:ext cx="26604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581960" y="4773600"/>
              <a:ext cx="247680" cy="56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6630120" y="4764240"/>
            <a:ext cx="1199160" cy="956160"/>
            <a:chOff x="6630120" y="4764240"/>
            <a:chExt cx="1199160" cy="956160"/>
          </a:xfrm>
        </p:grpSpPr>
        <p:sp>
          <p:nvSpPr>
            <p:cNvPr id="164" name=""/>
            <p:cNvSpPr/>
            <p:nvPr/>
          </p:nvSpPr>
          <p:spPr>
            <a:xfrm>
              <a:off x="6630120" y="5260680"/>
              <a:ext cx="26604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905520" y="4764240"/>
              <a:ext cx="923760" cy="599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F23B7F-680E-461F-B33E-4CAEFA86429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3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C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lect Permutation under the cipher men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2468520" y="3651120"/>
            <a:ext cx="5005440" cy="2857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7A4873-555E-4128-99FD-391EDB770F2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51:43Z</dcterms:created>
  <dc:creator>Richard Spillman</dc:creator>
  <dc:description/>
  <dc:language>en-US</dc:language>
  <cp:lastModifiedBy>Richard Spillman</cp:lastModifiedBy>
  <dcterms:modified xsi:type="dcterms:W3CDTF">2004-03-03T01:56:35Z</dcterms:modified>
  <cp:revision>69</cp:revision>
  <dc:subject/>
  <dc:title>CAP Cryptographic Analysis Program</dc:title>
</cp:coreProperties>
</file>